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1.png" ContentType="image/png"/>
  <Override PartName="/ppt/media/image6.wmf" ContentType="image/x-wmf"/>
  <Override PartName="/ppt/media/image7.jpeg" ContentType="image/jpeg"/>
  <Override PartName="/ppt/media/image23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B599-87C6-415A-87A1-78BDBBA5B5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19240" y="711360"/>
            <a:ext cx="4545000" cy="34081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5720" y="4331880"/>
            <a:ext cx="4971960" cy="4118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C development inclu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ng new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ining existing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FC releases had different 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0 / 2.0 - increase in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5(.1) / 2x - quality as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0687-F2FF-4A32-A85C-DB723EC9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2598-D81A-41EB-8BC8-E8D32203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3F33-6692-48D5-98E7-3DBC5B21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2DF5-739C-4C50-AC5D-055DD3FF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8652-F140-45D5-9A54-268824C3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82DE-7D42-4981-9C1F-31A1F458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6F1-BE0A-4DE9-80C2-3EFCCD76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22D-BBA9-4174-8E2C-97078726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C07F-1DA7-4729-A1AE-751FFE85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EE8E-C837-42F7-A56B-0BBFE18F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BC66-F901-48BC-BEC4-8AB26834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C85C-0FDF-4F3B-AA77-19BBB320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585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3911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894120" y="6656040"/>
            <a:ext cx="14400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91C3-69B2-4E2B-91DA-62FDCED33DFF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0" y="0"/>
            <a:ext cx="91490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976160" y="268200"/>
            <a:ext cx="927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C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868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42920"/>
            <a:ext cx="9144000" cy="583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8200" y="3957120"/>
            <a:ext cx="5398920" cy="9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238200" y="6656040"/>
            <a:ext cx="5398920" cy="14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292720" y="133200"/>
            <a:ext cx="3462120" cy="777960"/>
            <a:chOff x="5292720" y="133200"/>
            <a:chExt cx="3462120" cy="77796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5292720" y="133200"/>
              <a:ext cx="3462120" cy="7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492520" y="56808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EC</a:t>
              </a: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8000" y="3429000"/>
            <a:ext cx="67406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veiling IFC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and Editio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249360" y="5181120"/>
            <a:ext cx="5398920" cy="127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r Thomas Liebich, AEC3 Germany</a:t>
            </a:r>
            <a:br>
              <a:rPr sz="24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AI International, MSG Lea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ertified applications and compani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484360" y="1123920"/>
          <a:ext cx="6408720" cy="5614920"/>
        </p:xfrm>
        <a:graphic>
          <a:graphicData uri="http://schemas.openxmlformats.org/drawingml/2006/table">
            <a:tbl>
              <a:tblPr/>
              <a:tblGrid>
                <a:gridCol w="1909800"/>
                <a:gridCol w="1989000"/>
                <a:gridCol w="250992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rifor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lectroPartner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HVACPart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Electrical and HVAC Engine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E.M. Team 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2x-Interface for Autodesk </a:t>
                      </a: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D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Interface for 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so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rchi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etsch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llplan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Allplan, Allplot, Allready, AllFEM, Allf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, Structura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vi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HVAC-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s, Contractors and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A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SPR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-Plan Chec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ssion checking and control to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of Gran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SPro/RIU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 middleware and energy sim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b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 Chec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Spell Check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ze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acility on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VRML &amp; 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customized VRML viewer and CAD for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est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3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-Tree &amp; Vie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9" name=""/>
          <p:cNvGrpSpPr/>
          <p:nvPr/>
        </p:nvGrpSpPr>
        <p:grpSpPr>
          <a:xfrm>
            <a:off x="395280" y="1123920"/>
            <a:ext cx="1752480" cy="5638680"/>
            <a:chOff x="395280" y="1123920"/>
            <a:chExt cx="1752480" cy="5638680"/>
          </a:xfrm>
        </p:grpSpPr>
        <p:sp>
          <p:nvSpPr>
            <p:cNvPr id="340" name=""/>
            <p:cNvSpPr/>
            <p:nvPr/>
          </p:nvSpPr>
          <p:spPr>
            <a:xfrm>
              <a:off x="395280" y="1123920"/>
              <a:ext cx="1752480" cy="563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471600" y="1199880"/>
              <a:ext cx="129528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471600" y="1714320"/>
              <a:ext cx="1523880" cy="3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471600" y="2314440"/>
              <a:ext cx="14097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471600" y="4049640"/>
              <a:ext cx="6858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5"/>
            <a:stretch/>
          </p:blipFill>
          <p:spPr>
            <a:xfrm>
              <a:off x="471600" y="3066840"/>
              <a:ext cx="14572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6"/>
            <a:stretch/>
          </p:blipFill>
          <p:spPr>
            <a:xfrm>
              <a:off x="471600" y="4654440"/>
              <a:ext cx="914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7"/>
            <a:stretch/>
          </p:blipFill>
          <p:spPr>
            <a:xfrm>
              <a:off x="1720800" y="3520800"/>
              <a:ext cx="35100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8"/>
            <a:stretch/>
          </p:blipFill>
          <p:spPr>
            <a:xfrm>
              <a:off x="471600" y="3463920"/>
              <a:ext cx="121896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9"/>
            <a:stretch/>
          </p:blipFill>
          <p:spPr>
            <a:xfrm>
              <a:off x="471600" y="5238720"/>
              <a:ext cx="99036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0"/>
            <a:stretch/>
          </p:blipFill>
          <p:spPr>
            <a:xfrm>
              <a:off x="471600" y="5695920"/>
              <a:ext cx="10666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11"/>
            <a:stretch/>
          </p:blipFill>
          <p:spPr>
            <a:xfrm>
              <a:off x="471600" y="2062080"/>
              <a:ext cx="4888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12"/>
            <a:stretch/>
          </p:blipFill>
          <p:spPr>
            <a:xfrm>
              <a:off x="471600" y="6305400"/>
              <a:ext cx="1357200" cy="31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 development time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8720" y="5289480"/>
            <a:ext cx="1368360" cy="381240"/>
          </a:xfrm>
          <a:prstGeom prst="leftRightArrow">
            <a:avLst>
              <a:gd name="adj1" fmla="val 58333"/>
              <a:gd name="adj2" fmla="val 29977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79800" y="5289480"/>
            <a:ext cx="1224000" cy="381240"/>
          </a:xfrm>
          <a:prstGeom prst="leftRightArrow">
            <a:avLst>
              <a:gd name="adj1" fmla="val 58333"/>
              <a:gd name="adj2" fmla="val 30812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440" y="5289480"/>
            <a:ext cx="935280" cy="381240"/>
          </a:xfrm>
          <a:prstGeom prst="leftRightArrow">
            <a:avLst>
              <a:gd name="adj1" fmla="val 58333"/>
              <a:gd name="adj2" fmla="val 29393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67080" y="5289480"/>
            <a:ext cx="612720" cy="381240"/>
          </a:xfrm>
          <a:prstGeom prst="leftRightArrow">
            <a:avLst>
              <a:gd name="adj1" fmla="val 58333"/>
              <a:gd name="adj2" fmla="val 30811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03800" y="5289480"/>
            <a:ext cx="4481280" cy="381240"/>
          </a:xfrm>
          <a:prstGeom prst="leftRightArrow">
            <a:avLst>
              <a:gd name="adj1" fmla="val 57500"/>
              <a:gd name="adj2" fmla="val 33250"/>
            </a:avLst>
          </a:prstGeom>
          <a:solidFill>
            <a:srgbClr val="ff99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5080" y="4173480"/>
            <a:ext cx="863640" cy="612720"/>
          </a:xfrm>
          <a:custGeom>
            <a:avLst/>
            <a:gdLst/>
            <a:ahLst/>
            <a:rect l="l" t="t" r="r" b="b"/>
            <a:pathLst>
              <a:path w="544" h="386">
                <a:moveTo>
                  <a:pt x="0" y="386"/>
                </a:moveTo>
                <a:lnTo>
                  <a:pt x="544" y="386"/>
                </a:lnTo>
                <a:lnTo>
                  <a:pt x="544" y="0"/>
                </a:lnTo>
                <a:lnTo>
                  <a:pt x="0" y="38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98720" y="3994200"/>
            <a:ext cx="900000" cy="792000"/>
          </a:xfrm>
          <a:custGeom>
            <a:avLst/>
            <a:gdLst/>
            <a:ahLst/>
            <a:rect l="l" t="t" r="r" b="b"/>
            <a:pathLst>
              <a:path w="567" h="499">
                <a:moveTo>
                  <a:pt x="0" y="499"/>
                </a:moveTo>
                <a:lnTo>
                  <a:pt x="567" y="499"/>
                </a:lnTo>
                <a:lnTo>
                  <a:pt x="567" y="0"/>
                </a:lnTo>
                <a:lnTo>
                  <a:pt x="0" y="113"/>
                </a:lnTo>
                <a:lnTo>
                  <a:pt x="0" y="499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98720" y="3994200"/>
            <a:ext cx="468360" cy="792000"/>
          </a:xfrm>
          <a:custGeom>
            <a:avLst/>
            <a:gdLst/>
            <a:ahLst/>
            <a:rect l="l" t="t" r="r" b="b"/>
            <a:pathLst>
              <a:path w="295" h="499">
                <a:moveTo>
                  <a:pt x="0" y="499"/>
                </a:moveTo>
                <a:lnTo>
                  <a:pt x="295" y="499"/>
                </a:lnTo>
                <a:lnTo>
                  <a:pt x="295" y="0"/>
                </a:lnTo>
                <a:lnTo>
                  <a:pt x="0" y="0"/>
                </a:lnTo>
                <a:lnTo>
                  <a:pt x="0" y="499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67080" y="3597120"/>
            <a:ext cx="612720" cy="1189080"/>
          </a:xfrm>
          <a:custGeom>
            <a:avLst/>
            <a:gdLst/>
            <a:ahLst/>
            <a:rect l="l" t="t" r="r" b="b"/>
            <a:pathLst>
              <a:path w="386" h="749">
                <a:moveTo>
                  <a:pt x="0" y="749"/>
                </a:moveTo>
                <a:lnTo>
                  <a:pt x="386" y="749"/>
                </a:lnTo>
                <a:lnTo>
                  <a:pt x="386" y="0"/>
                </a:lnTo>
                <a:lnTo>
                  <a:pt x="0" y="250"/>
                </a:lnTo>
                <a:lnTo>
                  <a:pt x="0" y="749"/>
                </a:lnTo>
                <a:close/>
              </a:path>
            </a:pathLst>
          </a:custGeom>
          <a:solidFill>
            <a:srgbClr val="cc66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9800" y="3597120"/>
            <a:ext cx="1224000" cy="1189080"/>
          </a:xfrm>
          <a:custGeom>
            <a:avLst/>
            <a:gdLst/>
            <a:ahLst/>
            <a:rect l="l" t="t" r="r" b="b"/>
            <a:pathLst>
              <a:path w="771" h="749">
                <a:moveTo>
                  <a:pt x="771" y="749"/>
                </a:moveTo>
                <a:lnTo>
                  <a:pt x="0" y="749"/>
                </a:lnTo>
                <a:lnTo>
                  <a:pt x="0" y="0"/>
                </a:lnTo>
                <a:lnTo>
                  <a:pt x="771" y="0"/>
                </a:lnTo>
                <a:lnTo>
                  <a:pt x="771" y="227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03800" y="3957480"/>
            <a:ext cx="4444920" cy="828720"/>
          </a:xfrm>
          <a:custGeom>
            <a:avLst/>
            <a:gdLst/>
            <a:ahLst/>
            <a:rect l="l" t="t" r="r" b="b"/>
            <a:pathLst>
              <a:path w="2381" h="522">
                <a:moveTo>
                  <a:pt x="0" y="522"/>
                </a:moveTo>
                <a:lnTo>
                  <a:pt x="2381" y="522"/>
                </a:lnTo>
                <a:lnTo>
                  <a:pt x="2381" y="0"/>
                </a:lnTo>
                <a:lnTo>
                  <a:pt x="0" y="0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03800" y="2911320"/>
            <a:ext cx="4444920" cy="1046160"/>
            <a:chOff x="4303800" y="2911320"/>
            <a:chExt cx="4444920" cy="1046160"/>
          </a:xfrm>
        </p:grpSpPr>
        <p:sp>
          <p:nvSpPr>
            <p:cNvPr id="111" name=""/>
            <p:cNvSpPr/>
            <p:nvPr/>
          </p:nvSpPr>
          <p:spPr>
            <a:xfrm>
              <a:off x="4303800" y="3597120"/>
              <a:ext cx="915840" cy="36036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19640" y="2911320"/>
              <a:ext cx="3529080" cy="1046160"/>
            </a:xfrm>
            <a:custGeom>
              <a:avLst/>
              <a:gdLst/>
              <a:ahLst/>
              <a:rect l="l" t="t" r="r" b="b"/>
              <a:pathLst>
                <a:path w="2369" h="659">
                  <a:moveTo>
                    <a:pt x="0" y="432"/>
                  </a:moveTo>
                  <a:lnTo>
                    <a:pt x="835" y="0"/>
                  </a:lnTo>
                  <a:lnTo>
                    <a:pt x="2369" y="1"/>
                  </a:lnTo>
                  <a:lnTo>
                    <a:pt x="2369" y="659"/>
                  </a:lnTo>
                  <a:lnTo>
                    <a:pt x="0" y="659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99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03800" y="5697360"/>
            <a:ext cx="4480920" cy="384120"/>
            <a:chOff x="4303800" y="5697360"/>
            <a:chExt cx="4480920" cy="384120"/>
          </a:xfrm>
        </p:grpSpPr>
        <p:sp>
          <p:nvSpPr>
            <p:cNvPr id="114" name=""/>
            <p:cNvSpPr/>
            <p:nvPr/>
          </p:nvSpPr>
          <p:spPr>
            <a:xfrm>
              <a:off x="5202360" y="5700600"/>
              <a:ext cx="1280520" cy="380880"/>
            </a:xfrm>
            <a:prstGeom prst="leftRightArrow">
              <a:avLst>
                <a:gd name="adj1" fmla="val 58333"/>
                <a:gd name="adj2" fmla="val 30071"/>
              </a:avLst>
            </a:prstGeom>
            <a:solidFill>
              <a:srgbClr val="ff0000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84680" y="5697360"/>
              <a:ext cx="2300040" cy="380880"/>
            </a:xfrm>
            <a:prstGeom prst="leftRightArrow">
              <a:avLst>
                <a:gd name="adj1" fmla="val 61667"/>
                <a:gd name="adj2" fmla="val 31647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03800" y="5697360"/>
              <a:ext cx="898560" cy="380880"/>
            </a:xfrm>
            <a:prstGeom prst="leftRightArrow">
              <a:avLst>
                <a:gd name="adj1" fmla="val 61667"/>
                <a:gd name="adj2" fmla="val 33640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877680" y="1808280"/>
            <a:ext cx="5976000" cy="3154320"/>
            <a:chOff x="877680" y="1808280"/>
            <a:chExt cx="5976000" cy="3154320"/>
          </a:xfrm>
        </p:grpSpPr>
        <p:grpSp>
          <p:nvGrpSpPr>
            <p:cNvPr id="118" name=""/>
            <p:cNvGrpSpPr/>
            <p:nvPr/>
          </p:nvGrpSpPr>
          <p:grpSpPr>
            <a:xfrm>
              <a:off x="877680" y="1808280"/>
              <a:ext cx="447480" cy="3154320"/>
              <a:chOff x="877680" y="1808280"/>
              <a:chExt cx="447480" cy="3154320"/>
            </a:xfrm>
          </p:grpSpPr>
          <p:sp>
            <p:nvSpPr>
              <p:cNvPr id="119" name=""/>
              <p:cNvSpPr/>
              <p:nvPr/>
            </p:nvSpPr>
            <p:spPr>
              <a:xfrm>
                <a:off x="8776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1087200" y="2384640"/>
                <a:ext cx="11160" cy="2577960"/>
                <a:chOff x="1087200" y="2384640"/>
                <a:chExt cx="11160" cy="25779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10983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0872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" name=""/>
            <p:cNvGrpSpPr/>
            <p:nvPr/>
          </p:nvGrpSpPr>
          <p:grpSpPr>
            <a:xfrm>
              <a:off x="1771560" y="1808280"/>
              <a:ext cx="447480" cy="3154320"/>
              <a:chOff x="1771560" y="1808280"/>
              <a:chExt cx="447480" cy="3154320"/>
            </a:xfrm>
          </p:grpSpPr>
          <p:sp>
            <p:nvSpPr>
              <p:cNvPr id="124" name=""/>
              <p:cNvSpPr/>
              <p:nvPr/>
            </p:nvSpPr>
            <p:spPr>
              <a:xfrm>
                <a:off x="177156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1992240" y="2384640"/>
                <a:ext cx="11160" cy="2577960"/>
                <a:chOff x="1992240" y="2384640"/>
                <a:chExt cx="11160" cy="25779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003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92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" name=""/>
            <p:cNvGrpSpPr/>
            <p:nvPr/>
          </p:nvGrpSpPr>
          <p:grpSpPr>
            <a:xfrm>
              <a:off x="2181600" y="1808280"/>
              <a:ext cx="581400" cy="3154320"/>
              <a:chOff x="2181600" y="1808280"/>
              <a:chExt cx="581400" cy="3154320"/>
            </a:xfrm>
          </p:grpSpPr>
          <p:sp>
            <p:nvSpPr>
              <p:cNvPr id="129" name=""/>
              <p:cNvSpPr/>
              <p:nvPr/>
            </p:nvSpPr>
            <p:spPr>
              <a:xfrm>
                <a:off x="2181600" y="1808280"/>
                <a:ext cx="581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2466720" y="2384640"/>
                <a:ext cx="11160" cy="2577960"/>
                <a:chOff x="2466720" y="2384640"/>
                <a:chExt cx="11160" cy="25779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4778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667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2895480" y="1808280"/>
              <a:ext cx="447480" cy="3154320"/>
              <a:chOff x="2895480" y="1808280"/>
              <a:chExt cx="447480" cy="3154320"/>
            </a:xfrm>
          </p:grpSpPr>
          <p:sp>
            <p:nvSpPr>
              <p:cNvPr id="134" name=""/>
              <p:cNvSpPr/>
              <p:nvPr/>
            </p:nvSpPr>
            <p:spPr>
              <a:xfrm>
                <a:off x="28954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2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3079800" y="2384640"/>
                <a:ext cx="11160" cy="2577960"/>
                <a:chOff x="3079800" y="2384640"/>
                <a:chExt cx="11160" cy="25779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909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798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3996000" y="1808280"/>
              <a:ext cx="644040" cy="3154320"/>
              <a:chOff x="3996000" y="1808280"/>
              <a:chExt cx="644040" cy="31543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96000" y="1808280"/>
                <a:ext cx="64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314600" y="2384640"/>
                <a:ext cx="10800" cy="2577960"/>
                <a:chOff x="4314600" y="2384640"/>
                <a:chExt cx="10800" cy="25779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325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3146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081480" y="1808280"/>
              <a:ext cx="772200" cy="3154320"/>
              <a:chOff x="6081480" y="1808280"/>
              <a:chExt cx="772200" cy="3154320"/>
            </a:xfrm>
          </p:grpSpPr>
          <p:sp>
            <p:nvSpPr>
              <p:cNvPr id="144" name=""/>
              <p:cNvSpPr/>
              <p:nvPr/>
            </p:nvSpPr>
            <p:spPr>
              <a:xfrm>
                <a:off x="6081480" y="1808280"/>
                <a:ext cx="772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(2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n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E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423120" y="2384640"/>
                <a:ext cx="11160" cy="2577960"/>
                <a:chOff x="6423120" y="2384640"/>
                <a:chExt cx="11160" cy="257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4342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231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4833720" y="1808280"/>
              <a:ext cx="750960" cy="3154320"/>
              <a:chOff x="4833720" y="1808280"/>
              <a:chExt cx="750960" cy="3154320"/>
            </a:xfrm>
          </p:grpSpPr>
          <p:sp>
            <p:nvSpPr>
              <p:cNvPr id="149" name=""/>
              <p:cNvSpPr/>
              <p:nvPr/>
            </p:nvSpPr>
            <p:spPr>
              <a:xfrm>
                <a:off x="4833720" y="1808280"/>
                <a:ext cx="750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s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Ad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5205240" y="2384640"/>
                <a:ext cx="10800" cy="2577960"/>
                <a:chOff x="5205240" y="2384640"/>
                <a:chExt cx="10800" cy="25779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21604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205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" name=""/>
          <p:cNvSpPr/>
          <p:nvPr/>
        </p:nvSpPr>
        <p:spPr>
          <a:xfrm>
            <a:off x="666720" y="3465360"/>
            <a:ext cx="792360" cy="484200"/>
          </a:xfrm>
          <a:prstGeom prst="downArrowCallout">
            <a:avLst>
              <a:gd name="adj1" fmla="val 40915"/>
              <a:gd name="adj2" fmla="val 40911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3440" y="3465360"/>
            <a:ext cx="792000" cy="484200"/>
          </a:xfrm>
          <a:prstGeom prst="downArrowCallout">
            <a:avLst>
              <a:gd name="adj1" fmla="val 40896"/>
              <a:gd name="adj2" fmla="val 40892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i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1800" y="3465360"/>
            <a:ext cx="1222560" cy="484200"/>
          </a:xfrm>
          <a:prstGeom prst="downArrowCallout">
            <a:avLst>
              <a:gd name="adj1" fmla="val 63128"/>
              <a:gd name="adj2" fmla="val 63123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v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91080" y="2949480"/>
            <a:ext cx="1225440" cy="479520"/>
          </a:xfrm>
          <a:prstGeom prst="downArrowCallout">
            <a:avLst>
              <a:gd name="adj1" fmla="val 63895"/>
              <a:gd name="adj2" fmla="val 63889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54720" y="2409840"/>
            <a:ext cx="1222200" cy="479520"/>
          </a:xfrm>
          <a:prstGeom prst="downArrowCallout">
            <a:avLst>
              <a:gd name="adj1" fmla="val 63726"/>
              <a:gd name="adj2" fmla="val 63720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/P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680" y="1808280"/>
            <a:ext cx="9080640" cy="3389400"/>
            <a:chOff x="31680" y="1808280"/>
            <a:chExt cx="9080640" cy="3389400"/>
          </a:xfrm>
        </p:grpSpPr>
        <p:grpSp>
          <p:nvGrpSpPr>
            <p:cNvPr id="159" name=""/>
            <p:cNvGrpSpPr/>
            <p:nvPr/>
          </p:nvGrpSpPr>
          <p:grpSpPr>
            <a:xfrm>
              <a:off x="31680" y="1808280"/>
              <a:ext cx="9059760" cy="3389400"/>
              <a:chOff x="31680" y="1808280"/>
              <a:chExt cx="9059760" cy="338940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235080" y="4849200"/>
                <a:ext cx="8856360" cy="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63440" y="2409840"/>
                <a:ext cx="0" cy="237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680" y="4921200"/>
                <a:ext cx="37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18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013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579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585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365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6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7320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937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526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60" y="1808280"/>
                <a:ext cx="75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8734320" y="4921200"/>
              <a:ext cx="37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629760" y="2409840"/>
            <a:ext cx="2479320" cy="479520"/>
            <a:chOff x="6629760" y="2409840"/>
            <a:chExt cx="2479320" cy="479520"/>
          </a:xfrm>
        </p:grpSpPr>
        <p:sp>
          <p:nvSpPr>
            <p:cNvPr id="175" name=""/>
            <p:cNvSpPr/>
            <p:nvPr/>
          </p:nvSpPr>
          <p:spPr>
            <a:xfrm>
              <a:off x="8388360" y="2409840"/>
              <a:ext cx="720720" cy="479520"/>
            </a:xfrm>
            <a:prstGeom prst="downArrowCallout">
              <a:avLst>
                <a:gd name="adj1" fmla="val 37578"/>
                <a:gd name="adj2" fmla="val 37575"/>
                <a:gd name="adj3" fmla="val 16667"/>
                <a:gd name="adj4" fmla="val 66667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S/IS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67560" y="2565360"/>
              <a:ext cx="1720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29760" y="2529000"/>
              <a:ext cx="180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 years time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303800" y="4210200"/>
            <a:ext cx="4444920" cy="380880"/>
          </a:xfrm>
          <a:prstGeom prst="leftRightArrow">
            <a:avLst>
              <a:gd name="adj1" fmla="val 58333"/>
              <a:gd name="adj2" fmla="val 35767"/>
            </a:avLst>
          </a:prstGeom>
          <a:solidFill>
            <a:srgbClr val="ff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! platform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– truly international req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Drafting Extension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XM-4] - IFC drafting extens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Kore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7] - HVAC Performance Valid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8] - HVAC Modelling and Simul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CS-4] - Code Compliance Support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ingapore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EL-1] - Electrical Extens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Norwa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1] - Steel Frame Structures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2] - Reinforced Concrete Structures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Jap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3] - Precast Concrete Construct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4] - Structural Analysis + Steel Structure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Germany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1] - Engineering Maintenance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8] - Costs, Accounts and Financial in FM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PM-3] - Project Specification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 – structural engine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2347920"/>
            <a:ext cx="2160720" cy="21607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  <a:ea typeface="굴림"/>
              </a:rPr>
              <a:t>IFC2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  <a:ea typeface="굴림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4/2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Steel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122720" y="5445000"/>
            <a:ext cx="1184400" cy="941400"/>
            <a:chOff x="4122720" y="5445000"/>
            <a:chExt cx="1184400" cy="941400"/>
          </a:xfrm>
        </p:grpSpPr>
        <p:grpSp>
          <p:nvGrpSpPr>
            <p:cNvPr id="185" name=""/>
            <p:cNvGrpSpPr/>
            <p:nvPr/>
          </p:nvGrpSpPr>
          <p:grpSpPr>
            <a:xfrm>
              <a:off x="4122720" y="5913360"/>
              <a:ext cx="1184400" cy="473040"/>
              <a:chOff x="4122720" y="5913360"/>
              <a:chExt cx="1184400" cy="473040"/>
            </a:xfrm>
          </p:grpSpPr>
          <p:sp>
            <p:nvSpPr>
              <p:cNvPr id="186" name=""/>
              <p:cNvSpPr/>
              <p:nvPr/>
            </p:nvSpPr>
            <p:spPr>
              <a:xfrm>
                <a:off x="4122720" y="5950440"/>
                <a:ext cx="1184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Structural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Engine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22720" y="591336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4716360" y="5445000"/>
              <a:ext cx="0" cy="4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211400" y="2968560"/>
            <a:ext cx="2923920" cy="2795760"/>
            <a:chOff x="1211400" y="2968560"/>
            <a:chExt cx="2923920" cy="2795760"/>
          </a:xfrm>
        </p:grpSpPr>
        <p:grpSp>
          <p:nvGrpSpPr>
            <p:cNvPr id="190" name=""/>
            <p:cNvGrpSpPr/>
            <p:nvPr/>
          </p:nvGrpSpPr>
          <p:grpSpPr>
            <a:xfrm>
              <a:off x="1581120" y="2968560"/>
              <a:ext cx="1536840" cy="776520"/>
              <a:chOff x="1581120" y="2968560"/>
              <a:chExt cx="1536840" cy="77652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1581120" y="2968560"/>
                <a:ext cx="1182600" cy="474840"/>
                <a:chOff x="1581120" y="2968560"/>
                <a:chExt cx="1182600" cy="4748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58220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58112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7480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211400" y="3639960"/>
              <a:ext cx="1752480" cy="473400"/>
              <a:chOff x="1211400" y="3639960"/>
              <a:chExt cx="1752480" cy="4734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1211400" y="3639960"/>
                <a:ext cx="1184040" cy="473400"/>
                <a:chOff x="1211400" y="3639960"/>
                <a:chExt cx="1184040" cy="4734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211400" y="367704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        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sig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211400" y="3639960"/>
                  <a:ext cx="118404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241632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300320" y="4359240"/>
              <a:ext cx="1677960" cy="474840"/>
              <a:chOff x="1300320" y="4359240"/>
              <a:chExt cx="1677960" cy="4748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300320" y="4359240"/>
                <a:ext cx="1184040" cy="474840"/>
                <a:chOff x="1300320" y="4359240"/>
                <a:chExt cx="1184040" cy="4748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300320" y="43963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300320" y="4359240"/>
                  <a:ext cx="118296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V="1">
                <a:off x="250524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692360" y="4684320"/>
              <a:ext cx="1469880" cy="775080"/>
              <a:chOff x="1692360" y="4684320"/>
              <a:chExt cx="1469880" cy="77508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1692360" y="4987800"/>
                <a:ext cx="1184040" cy="471600"/>
                <a:chOff x="1692360" y="4987800"/>
                <a:chExt cx="1184040" cy="4716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69236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69236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 flipV="1">
                <a:off x="2787480" y="4684320"/>
                <a:ext cx="37476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2951280" y="4890960"/>
              <a:ext cx="1184040" cy="873360"/>
              <a:chOff x="2951280" y="4890960"/>
              <a:chExt cx="1184040" cy="873360"/>
            </a:xfrm>
          </p:grpSpPr>
          <p:sp>
            <p:nvSpPr>
              <p:cNvPr id="211" name=""/>
              <p:cNvSpPr/>
              <p:nvPr/>
            </p:nvSpPr>
            <p:spPr>
              <a:xfrm flipV="1">
                <a:off x="3522600" y="4890960"/>
                <a:ext cx="2664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2951280" y="5291280"/>
                <a:ext cx="1184040" cy="473040"/>
                <a:chOff x="2951280" y="5291280"/>
                <a:chExt cx="1184040" cy="4730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951280" y="532836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951280" y="5291280"/>
                  <a:ext cx="118296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" name=""/>
          <p:cNvGrpSpPr/>
          <p:nvPr/>
        </p:nvGrpSpPr>
        <p:grpSpPr>
          <a:xfrm>
            <a:off x="2416320" y="1468440"/>
            <a:ext cx="4600440" cy="1456920"/>
            <a:chOff x="2416320" y="1468440"/>
            <a:chExt cx="4600440" cy="1456920"/>
          </a:xfrm>
        </p:grpSpPr>
        <p:grpSp>
          <p:nvGrpSpPr>
            <p:cNvPr id="216" name=""/>
            <p:cNvGrpSpPr/>
            <p:nvPr/>
          </p:nvGrpSpPr>
          <p:grpSpPr>
            <a:xfrm>
              <a:off x="4124160" y="1468440"/>
              <a:ext cx="1184400" cy="880920"/>
              <a:chOff x="4124160" y="1468440"/>
              <a:chExt cx="1184400" cy="880920"/>
            </a:xfrm>
          </p:grpSpPr>
          <p:sp>
            <p:nvSpPr>
              <p:cNvPr id="217" name=""/>
              <p:cNvSpPr/>
              <p:nvPr/>
            </p:nvSpPr>
            <p:spPr>
              <a:xfrm>
                <a:off x="4124160" y="146844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Archit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716360" y="1952640"/>
                <a:ext cx="0" cy="39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224320" y="1773360"/>
              <a:ext cx="1184400" cy="755640"/>
              <a:chOff x="5224320" y="1773360"/>
              <a:chExt cx="1184400" cy="755640"/>
            </a:xfrm>
          </p:grpSpPr>
          <p:sp>
            <p:nvSpPr>
              <p:cNvPr id="220" name=""/>
              <p:cNvSpPr/>
              <p:nvPr/>
            </p:nvSpPr>
            <p:spPr>
              <a:xfrm>
                <a:off x="5224320" y="177336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acility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529272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688000" y="2313000"/>
              <a:ext cx="1328760" cy="612360"/>
              <a:chOff x="5688000" y="2313000"/>
              <a:chExt cx="1328760" cy="612360"/>
            </a:xfrm>
          </p:grpSpPr>
          <p:sp>
            <p:nvSpPr>
              <p:cNvPr id="223" name=""/>
              <p:cNvSpPr/>
              <p:nvPr/>
            </p:nvSpPr>
            <p:spPr>
              <a:xfrm>
                <a:off x="5832360" y="231300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othe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iscipl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568800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024360" y="1773360"/>
              <a:ext cx="1184040" cy="755640"/>
              <a:chOff x="3024360" y="1773360"/>
              <a:chExt cx="1184040" cy="755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024360" y="1773360"/>
                <a:ext cx="118404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Project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388764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16320" y="2313000"/>
              <a:ext cx="1326600" cy="612360"/>
              <a:chOff x="2416320" y="2313000"/>
              <a:chExt cx="1326600" cy="612360"/>
            </a:xfrm>
          </p:grpSpPr>
          <p:sp>
            <p:nvSpPr>
              <p:cNvPr id="229" name=""/>
              <p:cNvSpPr/>
              <p:nvPr/>
            </p:nvSpPr>
            <p:spPr>
              <a:xfrm>
                <a:off x="2416320" y="2313000"/>
                <a:ext cx="118404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HVAC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esigner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338256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 flipH="1">
            <a:off x="5111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3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R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259240" y="2968560"/>
            <a:ext cx="2928600" cy="2795760"/>
            <a:chOff x="5259240" y="2968560"/>
            <a:chExt cx="2928600" cy="2795760"/>
          </a:xfrm>
        </p:grpSpPr>
        <p:grpSp>
          <p:nvGrpSpPr>
            <p:cNvPr id="233" name=""/>
            <p:cNvGrpSpPr/>
            <p:nvPr/>
          </p:nvGrpSpPr>
          <p:grpSpPr>
            <a:xfrm>
              <a:off x="6281280" y="2968560"/>
              <a:ext cx="1536840" cy="776520"/>
              <a:chOff x="6281280" y="2968560"/>
              <a:chExt cx="1536840" cy="7765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35520" y="2968560"/>
                <a:ext cx="1182600" cy="474840"/>
                <a:chOff x="6635520" y="2968560"/>
                <a:chExt cx="1182600" cy="474840"/>
              </a:xfrm>
            </p:grpSpPr>
            <p:sp>
              <p:nvSpPr>
                <p:cNvPr id="235" name=""/>
                <p:cNvSpPr/>
                <p:nvPr/>
              </p:nvSpPr>
              <p:spPr>
                <a:xfrm flipH="1">
                  <a:off x="663552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663516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 flipH="1">
                <a:off x="628128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435360" y="3639960"/>
              <a:ext cx="1752480" cy="473400"/>
              <a:chOff x="6435360" y="3639960"/>
              <a:chExt cx="1752480" cy="47340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6997320" y="3639960"/>
                <a:ext cx="1190520" cy="473400"/>
                <a:chOff x="6997320" y="3639960"/>
                <a:chExt cx="1190520" cy="47340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6997320" y="367704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7004160" y="3639960"/>
                  <a:ext cx="118332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 flipH="1">
                <a:off x="643536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421320" y="4359240"/>
              <a:ext cx="1677960" cy="474840"/>
              <a:chOff x="6421320" y="4359240"/>
              <a:chExt cx="1677960" cy="47484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6905880" y="4359240"/>
                <a:ext cx="1193400" cy="474840"/>
                <a:chOff x="6905880" y="4359240"/>
                <a:chExt cx="1193400" cy="474840"/>
              </a:xfrm>
            </p:grpSpPr>
            <p:sp>
              <p:nvSpPr>
                <p:cNvPr id="245" name=""/>
                <p:cNvSpPr/>
                <p:nvPr/>
              </p:nvSpPr>
              <p:spPr>
                <a:xfrm flipH="1">
                  <a:off x="6905880" y="4396320"/>
                  <a:ext cx="11836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Fabrica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6917760" y="4359240"/>
                  <a:ext cx="118152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 flipH="1" flipV="1">
                <a:off x="642132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6237360" y="4684320"/>
              <a:ext cx="1469520" cy="775080"/>
              <a:chOff x="6237360" y="4684320"/>
              <a:chExt cx="1469520" cy="7750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6522840" y="4987800"/>
                <a:ext cx="1184040" cy="471600"/>
                <a:chOff x="6522840" y="4987800"/>
                <a:chExt cx="1184040" cy="471600"/>
              </a:xfrm>
            </p:grpSpPr>
            <p:sp>
              <p:nvSpPr>
                <p:cNvPr id="250" name=""/>
                <p:cNvSpPr/>
                <p:nvPr/>
              </p:nvSpPr>
              <p:spPr>
                <a:xfrm flipH="1">
                  <a:off x="652248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52392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 flipH="1" flipV="1">
                <a:off x="6237360" y="4684320"/>
                <a:ext cx="37440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259240" y="4890960"/>
              <a:ext cx="1184400" cy="873360"/>
              <a:chOff x="5259240" y="4890960"/>
              <a:chExt cx="1184400" cy="873360"/>
            </a:xfrm>
          </p:grpSpPr>
          <p:sp>
            <p:nvSpPr>
              <p:cNvPr id="254" name=""/>
              <p:cNvSpPr/>
              <p:nvPr/>
            </p:nvSpPr>
            <p:spPr>
              <a:xfrm flipH="1" flipV="1">
                <a:off x="5844600" y="4890960"/>
                <a:ext cx="2700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5259240" y="5291280"/>
                <a:ext cx="1184400" cy="473040"/>
                <a:chOff x="5259240" y="5291280"/>
                <a:chExt cx="1184400" cy="473040"/>
              </a:xfrm>
            </p:grpSpPr>
            <p:sp>
              <p:nvSpPr>
                <p:cNvPr id="256" name=""/>
                <p:cNvSpPr/>
                <p:nvPr/>
              </p:nvSpPr>
              <p:spPr>
                <a:xfrm flipH="1">
                  <a:off x="5259240" y="532836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5259960" y="5291280"/>
                  <a:ext cx="118332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8" name=""/>
          <p:cNvSpPr/>
          <p:nvPr/>
        </p:nvSpPr>
        <p:spPr>
          <a:xfrm>
            <a:off x="4065480" y="410544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ST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1028880"/>
            <a:ext cx="3076560" cy="2794680"/>
            <a:chOff x="0" y="1028880"/>
            <a:chExt cx="3076560" cy="2794680"/>
          </a:xfrm>
        </p:grpSpPr>
        <p:sp>
          <p:nvSpPr>
            <p:cNvPr id="260" name=""/>
            <p:cNvSpPr/>
            <p:nvPr/>
          </p:nvSpPr>
          <p:spPr>
            <a:xfrm>
              <a:off x="1776240" y="1596960"/>
              <a:ext cx="1300320" cy="13035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Black"/>
                  <a:ea typeface="굴림"/>
                </a:rPr>
                <a:t>ST-5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ber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IFC2x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0" y="1028880"/>
              <a:ext cx="2923920" cy="2794680"/>
              <a:chOff x="0" y="1028880"/>
              <a:chExt cx="2923920" cy="27946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369720" y="1028880"/>
                <a:ext cx="1536840" cy="775800"/>
                <a:chOff x="369720" y="1028880"/>
                <a:chExt cx="1536840" cy="77580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369720" y="1028880"/>
                  <a:ext cx="1182600" cy="474480"/>
                  <a:chOff x="369720" y="1028880"/>
                  <a:chExt cx="1182600" cy="47448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370800" y="1065960"/>
                    <a:ext cx="118116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hecking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Engine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69720" y="1028880"/>
                    <a:ext cx="118260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1463400" y="1427040"/>
                  <a:ext cx="443160" cy="37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0" y="1699920"/>
                <a:ext cx="1752480" cy="473040"/>
                <a:chOff x="0" y="1699920"/>
                <a:chExt cx="1752480" cy="47304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0" y="1699920"/>
                  <a:ext cx="1184040" cy="473040"/>
                  <a:chOff x="0" y="1699920"/>
                  <a:chExt cx="1184040" cy="4730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0" y="173700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0" y="1699920"/>
                    <a:ext cx="1184040" cy="4730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>
                  <a:off x="1204920" y="1980720"/>
                  <a:ext cx="547560" cy="16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88920" y="2419200"/>
                <a:ext cx="1677960" cy="474480"/>
                <a:chOff x="88920" y="2419200"/>
                <a:chExt cx="1677960" cy="47448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88920" y="2419200"/>
                  <a:ext cx="1184040" cy="474480"/>
                  <a:chOff x="88920" y="2419200"/>
                  <a:chExt cx="1184040" cy="4744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88920" y="245628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88920" y="2419200"/>
                    <a:ext cx="118296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" name=""/>
                <p:cNvSpPr/>
                <p:nvPr/>
              </p:nvSpPr>
              <p:spPr>
                <a:xfrm flipV="1">
                  <a:off x="1293840" y="2455200"/>
                  <a:ext cx="473040" cy="14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80960" y="2744640"/>
                <a:ext cx="1469880" cy="774000"/>
                <a:chOff x="480960" y="2744640"/>
                <a:chExt cx="1469880" cy="77400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480960" y="3047400"/>
                  <a:ext cx="1184040" cy="471240"/>
                  <a:chOff x="480960" y="3047400"/>
                  <a:chExt cx="1184040" cy="47124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480960" y="308412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nstruction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Manag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80960" y="3047400"/>
                    <a:ext cx="1182960" cy="4712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 flipV="1">
                  <a:off x="1576080" y="2744640"/>
                  <a:ext cx="374760" cy="391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1739880" y="2950560"/>
                <a:ext cx="1184040" cy="873000"/>
                <a:chOff x="1739880" y="2950560"/>
                <a:chExt cx="1184040" cy="87300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2311200" y="2950560"/>
                  <a:ext cx="2664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1739880" y="3350880"/>
                  <a:ext cx="1184040" cy="472680"/>
                  <a:chOff x="1739880" y="3350880"/>
                  <a:chExt cx="1184040" cy="47268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1739880" y="338796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st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alculati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739880" y="3350880"/>
                    <a:ext cx="1182960" cy="4726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14815E-006 L 0.13229 0.28473 E">
                                      <p:cBhvr>
                                        <p:cTn id="200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background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457280" y="882720"/>
            <a:ext cx="6229440" cy="5975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195640" y="2671920"/>
            <a:ext cx="4752720" cy="3528720"/>
          </a:xfrm>
          <a:custGeom>
            <a:avLst/>
            <a:gdLst/>
            <a:ahLst/>
            <a:rect l="l" t="t" r="r" b="b"/>
            <a:pathLst>
              <a:path w="2994" h="2223">
                <a:moveTo>
                  <a:pt x="0" y="1452"/>
                </a:moveTo>
                <a:lnTo>
                  <a:pt x="0" y="2223"/>
                </a:lnTo>
                <a:lnTo>
                  <a:pt x="2994" y="2223"/>
                </a:lnTo>
                <a:lnTo>
                  <a:pt x="2994" y="1452"/>
                </a:lnTo>
                <a:lnTo>
                  <a:pt x="1815" y="1452"/>
                </a:lnTo>
                <a:lnTo>
                  <a:pt x="1815" y="0"/>
                </a:lnTo>
                <a:lnTo>
                  <a:pt x="1179" y="0"/>
                </a:lnTo>
                <a:lnTo>
                  <a:pt x="1179" y="1452"/>
                </a:lnTo>
                <a:lnTo>
                  <a:pt x="0" y="1452"/>
                </a:lnTo>
                <a:close/>
              </a:path>
            </a:pathLst>
          </a:custGeom>
          <a:solidFill>
            <a:srgbClr val="6699ff">
              <a:alpha val="25000"/>
            </a:srgbClr>
          </a:solidFill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219800" y="1052640"/>
            <a:ext cx="1924200" cy="302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91" name=""/>
          <p:cNvSpPr/>
          <p:nvPr/>
        </p:nvSpPr>
        <p:spPr>
          <a:xfrm rot="2722200">
            <a:off x="212292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rot="18877800">
            <a:off x="514800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640" y="1052640"/>
            <a:ext cx="2124000" cy="2130840"/>
            <a:chOff x="17640" y="1052640"/>
            <a:chExt cx="2124000" cy="2130840"/>
          </a:xfrm>
        </p:grpSpPr>
        <p:pic>
          <p:nvPicPr>
            <p:cNvPr id="294" name="" descr=""/>
            <p:cNvPicPr/>
            <p:nvPr/>
          </p:nvPicPr>
          <p:blipFill>
            <a:blip r:embed="rId3"/>
            <a:stretch/>
          </p:blipFill>
          <p:spPr>
            <a:xfrm>
              <a:off x="17640" y="1052640"/>
              <a:ext cx="212400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86040" y="278460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3333cc"/>
                  </a:solidFill>
                  <a:latin typeface="Arial"/>
                </a:rPr>
                <a:t>ISO/PAS 1673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12800" y="1052640"/>
            <a:ext cx="4118040" cy="1758600"/>
            <a:chOff x="2512800" y="1052640"/>
            <a:chExt cx="4118040" cy="1758600"/>
          </a:xfrm>
        </p:grpSpPr>
        <p:sp>
          <p:nvSpPr>
            <p:cNvPr id="297" name=""/>
            <p:cNvSpPr/>
            <p:nvPr/>
          </p:nvSpPr>
          <p:spPr>
            <a:xfrm rot="12112200">
              <a:off x="2555640" y="213336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50600">
              <a:off x="3150000" y="164664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6200000">
              <a:off x="3942360" y="1431000"/>
              <a:ext cx="1224000" cy="46692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920"/>
                <a:gd name="textAreaBottom" fmla="*/ 350280 h 4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824000" y="1252440"/>
              <a:ext cx="1806840" cy="1558800"/>
              <a:chOff x="4824000" y="1252440"/>
              <a:chExt cx="1806840" cy="1558800"/>
            </a:xfrm>
          </p:grpSpPr>
          <p:sp>
            <p:nvSpPr>
              <p:cNvPr id="301" name=""/>
              <p:cNvSpPr/>
              <p:nvPr/>
            </p:nvSpPr>
            <p:spPr>
              <a:xfrm flipH="1" rot="9487800">
                <a:off x="5364000" y="213336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7649400">
                <a:off x="4768920" y="164664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scop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6134040"/>
            <a:ext cx="533520" cy="800280"/>
          </a:xfrm>
          <a:custGeom>
            <a:avLst/>
            <a:gdLst/>
            <a:ahLst/>
            <a:rect l="l" t="t" r="r" b="b"/>
            <a:pathLst>
              <a:path w="336" h="504">
                <a:moveTo>
                  <a:pt x="48" y="504"/>
                </a:moveTo>
                <a:cubicBezTo>
                  <a:pt x="24" y="324"/>
                  <a:pt x="0" y="144"/>
                  <a:pt x="48" y="72"/>
                </a:cubicBezTo>
                <a:cubicBezTo>
                  <a:pt x="96" y="0"/>
                  <a:pt x="304" y="72"/>
                  <a:pt x="336" y="7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920" y="1268280"/>
            <a:ext cx="2736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jor ad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D Draf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spatial and functio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u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pi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rainage / s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tee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reinforced con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425680" y="1052640"/>
            <a:ext cx="6718320" cy="4113000"/>
            <a:chOff x="2425680" y="1052640"/>
            <a:chExt cx="6718320" cy="4113000"/>
          </a:xfrm>
        </p:grpSpPr>
        <p:graphicFrame>
          <p:nvGraphicFramePr>
            <p:cNvPr id="307" name=""/>
            <p:cNvGraphicFramePr/>
            <p:nvPr/>
          </p:nvGraphicFramePr>
          <p:xfrm>
            <a:off x="2425680" y="1052640"/>
            <a:ext cx="6718320" cy="3886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25680" y="1052640"/>
                      <a:ext cx="671832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6012720" y="4797360"/>
              <a:ext cx="288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mber of classes in I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FC2x Edition 2 - completenes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79640" y="1020960"/>
            <a:ext cx="6193440" cy="2404800"/>
            <a:chOff x="1979640" y="1020960"/>
            <a:chExt cx="6193440" cy="2404800"/>
          </a:xfrm>
        </p:grpSpPr>
        <p:sp>
          <p:nvSpPr>
            <p:cNvPr id="312" name=""/>
            <p:cNvSpPr/>
            <p:nvPr/>
          </p:nvSpPr>
          <p:spPr>
            <a:xfrm rot="16200000">
              <a:off x="1461240" y="2570040"/>
              <a:ext cx="137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1939320" y="2279160"/>
              <a:ext cx="188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2637720" y="2246040"/>
              <a:ext cx="194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Electr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3161520" y="2034360"/>
              <a:ext cx="236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uctural Engine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4248000" y="2393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de Che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4789440" y="2199600"/>
              <a:ext cx="20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struction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5717160" y="239580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cilities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6752520" y="2702520"/>
              <a:ext cx="103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bra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6200000">
              <a:off x="7526160" y="27417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a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1" name=""/>
          <p:cNvGraphicFramePr/>
          <p:nvPr/>
        </p:nvGraphicFramePr>
        <p:xfrm>
          <a:off x="179280" y="2841480"/>
          <a:ext cx="8748720" cy="39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841480"/>
                    <a:ext cx="8748720" cy="39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Stage Certification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Certification Workshop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artificial test cases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st Certification Workshop : 24 Oct 2002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1909800" cy="3000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227640" y="2876400"/>
            <a:ext cx="1908360" cy="300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27" name=""/>
          <p:cNvSpPr/>
          <p:nvPr/>
        </p:nvSpPr>
        <p:spPr>
          <a:xfrm>
            <a:off x="358920" y="3500280"/>
            <a:ext cx="84564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eta customers to use IFC2x-Interface </a:t>
            </a:r>
            <a:br>
              <a:rPr sz="1800"/>
            </a:b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or 6 months in real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full size 3D project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pproval by these end-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nd Certification Workshop: 7 May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nd-user projects for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258920"/>
            <a:ext cx="42098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enzentrum (Hospital)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CAD-Stelle Bayern, Building Authority of State of Bavari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LLPL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500720" cy="29527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643280" y="2565360"/>
            <a:ext cx="4500720" cy="34495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4643280" y="3303720"/>
            <a:ext cx="4500720" cy="3554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50920" y="4097160"/>
            <a:ext cx="42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reenwich Union Vil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Taylor Woodrow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Trifo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26780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Munkerud House (Apart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Selvaagbygg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rchi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55166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Semidetached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bermeyer Planen+Ber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22:38:50Z</dcterms:created>
  <dc:creator>Thomas Liebich</dc:creator>
  <dc:description/>
  <dc:language>en-US</dc:language>
  <cp:lastModifiedBy>User</cp:lastModifiedBy>
  <dcterms:modified xsi:type="dcterms:W3CDTF">2005-03-02T22:31:27Z</dcterms:modified>
  <cp:revision>71</cp:revision>
  <dc:subject/>
  <dc:title>IFC2x Implementation and IFC2x2 Specification</dc:title>
</cp:coreProperties>
</file>