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958DA-F6E1-4CFD-B66C-F08A6FEAE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15E75-3A8B-499B-AC8E-D5999738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1F18B-07B7-4900-A699-9B81935D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6BDE48-187F-4434-9529-16BD2724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C9F1A-0BAD-40E7-9425-B5E4ACF9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13762-49AF-45AA-B16A-5105266F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2F0D2-83C8-482C-B2DC-5AAC2ED9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A52CA-A2C8-4196-A18C-762DA563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E06177-BECD-46AD-81AB-640EADA5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D09DB-9448-4797-B5BF-9BD6DA72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F3709-70A0-4B68-9DDB-C8A0C20D0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46890-6119-451B-81A6-26BB872A3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4c2b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A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CIS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4c2b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imes New Roman"/>
              </a:rPr>
              <a:t>San Francisco</a:t>
            </a:r>
            <a:r>
              <a:rPr b="1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867280" y="60199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78963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106668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38080" y="6114960"/>
            <a:ext cx="1752840" cy="742680"/>
            <a:chOff x="838080" y="6114960"/>
            <a:chExt cx="1752840" cy="742680"/>
          </a:xfrm>
        </p:grpSpPr>
        <p:sp>
          <p:nvSpPr>
            <p:cNvPr id="7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2200" y="611496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8080" y="682668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40240" y="682992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45720" y="634392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107360" y="638712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23444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61880" y="638712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440000" y="638712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721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61640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3560" y="634392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756080" y="634680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55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39036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37680" y="634680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507760" y="641196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077840" y="660384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58920" y="653580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61880" y="65732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89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16400" y="653580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05480" y="660384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98360" y="653580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00880" y="653904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81520" y="660384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08960" y="660384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ECDB-673C-436F-B901-54E6E6541548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KIS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Usag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2133720"/>
            <a:ext cx="80773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riving the quantit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Use of assembly, count located assembly that refer to same assemb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Detai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447920" y="1523880"/>
            <a:ext cx="5181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of piece: W,L,I,H,AB, etc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ISC size design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3049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iece Design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3880" y="2743200"/>
            <a:ext cx="6019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aken from flavors fi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f profile defined explicitly, need a convention for storing name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terial Type Mapp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1447920"/>
            <a:ext cx="79250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Material is inherited from </a:t>
            </a:r>
            <a:r>
              <a:rPr b="0" lang="en-US" sz="2800" spc="-1" strike="noStrike">
                <a:solidFill>
                  <a:srgbClr val="004c2b"/>
                </a:solidFill>
                <a:latin typeface="Arial"/>
              </a:rPr>
              <a:t>structural_frame_product</a:t>
            </a: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 into</a:t>
            </a:r>
            <a:r>
              <a:rPr b="0" lang="en-US" sz="2800" spc="-1" strike="noStrike">
                <a:solidFill>
                  <a:srgbClr val="004c2b"/>
                </a:solidFill>
                <a:latin typeface="Arial"/>
              </a:rPr>
              <a:t> assembly</a:t>
            </a: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 or </a:t>
            </a:r>
            <a:r>
              <a:rPr b="0" lang="en-US" sz="2800" spc="-1" strike="noStrike">
                <a:solidFill>
                  <a:srgbClr val="004c2b"/>
                </a:solidFill>
                <a:latin typeface="Arial"/>
              </a:rPr>
              <a:t>par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685800" y="2057400"/>
          <a:ext cx="7543800" cy="32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057400"/>
                    <a:ext cx="754380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terial Type Mappin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42670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95120" indent="-19512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Associate variables of defining a KISS labor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labor Typ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Quanti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Size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Size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No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Issu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Issues of Labor Type Mapp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Size 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28760" y="-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762120" y="1828800"/>
          <a:ext cx="7162560" cy="445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162560" cy="44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Size 1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28760" y="-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04920" y="1905120"/>
          <a:ext cx="8534160" cy="358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905120"/>
                    <a:ext cx="8534160" cy="35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 Size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28760" y="-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533520" y="2133720"/>
          <a:ext cx="7848360" cy="396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133720"/>
                    <a:ext cx="7848360" cy="39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Size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96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066680" y="2362320"/>
          <a:ext cx="6858000" cy="207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362320"/>
                    <a:ext cx="6858000" cy="20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KIS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40" y="-511956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-1440" y="-3389400"/>
            <a:ext cx="6041880" cy="2293920"/>
            <a:chOff x="-1440" y="-3389400"/>
            <a:chExt cx="6041880" cy="2293920"/>
          </a:xfrm>
        </p:grpSpPr>
        <p:grpSp>
          <p:nvGrpSpPr>
            <p:cNvPr id="148" name=""/>
            <p:cNvGrpSpPr/>
            <p:nvPr/>
          </p:nvGrpSpPr>
          <p:grpSpPr>
            <a:xfrm>
              <a:off x="3240" y="-3384720"/>
              <a:ext cx="6032520" cy="2284200"/>
              <a:chOff x="3240" y="-3384720"/>
              <a:chExt cx="6032520" cy="228420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240" y="-3384720"/>
                <a:ext cx="2011320" cy="822240"/>
                <a:chOff x="3240" y="-3384720"/>
                <a:chExt cx="2011320" cy="82224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71640" y="-3384720"/>
                  <a:ext cx="18748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File ID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240" y="-3384720"/>
                  <a:ext cx="201132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2014560" y="-3384720"/>
                <a:ext cx="844560" cy="822240"/>
                <a:chOff x="2014560" y="-3384720"/>
                <a:chExt cx="844560" cy="82224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2082960" y="-3384720"/>
                  <a:ext cx="707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F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014560" y="-3384720"/>
                  <a:ext cx="844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2859120" y="-3384720"/>
                <a:ext cx="3176640" cy="822240"/>
                <a:chOff x="2859120" y="-3384720"/>
                <a:chExt cx="3176640" cy="82224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2927520" y="-3384720"/>
                  <a:ext cx="30398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Identifies file format, KISS version, application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859120" y="-3384720"/>
                  <a:ext cx="31766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240" y="-2562480"/>
                <a:ext cx="2011320" cy="822240"/>
                <a:chOff x="3240" y="-2562480"/>
                <a:chExt cx="2011320" cy="8222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71640" y="-2562480"/>
                  <a:ext cx="18748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Header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240" y="-2562480"/>
                  <a:ext cx="201132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2014560" y="-2562480"/>
                <a:ext cx="844560" cy="822240"/>
                <a:chOff x="2014560" y="-2562480"/>
                <a:chExt cx="844560" cy="82224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2082960" y="-2562480"/>
                  <a:ext cx="707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014560" y="-2562480"/>
                  <a:ext cx="844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2859120" y="-2562480"/>
                <a:ext cx="3176640" cy="822240"/>
                <a:chOff x="2859120" y="-2562480"/>
                <a:chExt cx="3176640" cy="8222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2927520" y="-2562480"/>
                  <a:ext cx="30398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Job #, name customer, date, time, units,type of bill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859120" y="-2562480"/>
                  <a:ext cx="31766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240" y="-1740240"/>
                <a:ext cx="2011320" cy="639720"/>
                <a:chOff x="3240" y="-1740240"/>
                <a:chExt cx="2011320" cy="6397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71640" y="-1740240"/>
                  <a:ext cx="1874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Address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240" y="-1740240"/>
                  <a:ext cx="2011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014560" y="-1740240"/>
                <a:ext cx="844560" cy="639720"/>
                <a:chOff x="2014560" y="-1740240"/>
                <a:chExt cx="844560" cy="63972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082960" y="-1740240"/>
                  <a:ext cx="707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P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014560" y="-1740240"/>
                  <a:ext cx="844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2859120" y="-1740240"/>
                <a:ext cx="3176640" cy="639720"/>
                <a:chOff x="2859120" y="-1740240"/>
                <a:chExt cx="3176640" cy="63972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2927520" y="-1740240"/>
                  <a:ext cx="30398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Names and address, contact info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859120" y="-1740240"/>
                  <a:ext cx="3176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6" name=""/>
            <p:cNvSpPr/>
            <p:nvPr/>
          </p:nvSpPr>
          <p:spPr>
            <a:xfrm>
              <a:off x="-1440" y="-3389400"/>
              <a:ext cx="6041880" cy="2293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240" y="-10954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eated Sections where Main Piece is listed , flowed by sub-pieces and associated labor, sequence and fabrication data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" y="1079028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639800" y="157320"/>
          <a:ext cx="5846760" cy="6883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9800" y="157320"/>
                    <a:ext cx="5846760" cy="68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Not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304920" y="2568600"/>
          <a:ext cx="8381880" cy="344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568600"/>
                    <a:ext cx="8381880" cy="34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Cop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7664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0" y="1752480"/>
          <a:ext cx="8690040" cy="434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52480"/>
                    <a:ext cx="8690040" cy="43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 rot="5400000">
            <a:off x="2209320" y="5410080"/>
            <a:ext cx="380880" cy="533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5400000">
            <a:off x="3352320" y="5410080"/>
            <a:ext cx="380880" cy="533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Camber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2952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A camber labor that applies to a pie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Camber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09480" y="1295280"/>
          <a:ext cx="7315200" cy="471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295280"/>
                    <a:ext cx="7315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 rot="18930000">
            <a:off x="6629040" y="4038120"/>
            <a:ext cx="38088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8930000">
            <a:off x="5486400" y="3962160"/>
            <a:ext cx="380880" cy="533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Burn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Definition of Size 1 and Size 2 are similar to Holes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Note field should refer to restricted cutting typ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Flame cut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Las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33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380880" y="2819520"/>
          <a:ext cx="8305920" cy="338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819520"/>
                    <a:ext cx="8305920" cy="33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 rot="13519200">
            <a:off x="8534160" y="4190400"/>
            <a:ext cx="30492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2908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Weld 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9536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7664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685800" y="990720"/>
          <a:ext cx="7086600" cy="533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990720"/>
                    <a:ext cx="7086600" cy="53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7162920" y="45720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705720" y="38862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Size 1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Weld 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9536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7664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533520" y="1295280"/>
          <a:ext cx="7391160" cy="225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295280"/>
                    <a:ext cx="739116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230976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457200" y="3733920"/>
          <a:ext cx="7696080" cy="234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3733920"/>
                    <a:ext cx="769608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quivalent Structures to CIS/2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ata Flow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514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Header Instan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Replicates information with a STEP file head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7621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Detai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47920" y="1143000"/>
            <a:ext cx="533376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rawing ref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iece and ship mark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of piece: W,L,I,H,AB, etc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ISC size design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STM Grade (op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ngth of pie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nish (op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2133720"/>
            <a:ext cx="80773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signation of Main Part in an Assemb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Consider using a note ‘main’ in an attribute fiel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Detai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400800" y="5638680"/>
            <a:ext cx="16765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Drawing revision No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tail Mapping -Draw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3716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Mapping a Drawing No. and a Drawing revision  No. 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to CIS/2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" y="2057400"/>
          <a:ext cx="7391520" cy="350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057400"/>
                    <a:ext cx="7391520" cy="35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6400800" y="4267080"/>
            <a:ext cx="1676520" cy="30492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10280" y="5486400"/>
            <a:ext cx="5335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00800" y="4572000"/>
            <a:ext cx="1676520" cy="91440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53080" y="3886200"/>
            <a:ext cx="106704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Drawing No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0800000">
            <a:off x="6858000" y="4114440"/>
            <a:ext cx="5335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tail Mapping -Shipmark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Shipmar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Alternative of mapping a KISS Shipmark to CIS/2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2864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85800" y="2514600"/>
          <a:ext cx="7543800" cy="32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514600"/>
                    <a:ext cx="754380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 flipH="1" flipV="1">
            <a:off x="3581280" y="4114440"/>
            <a:ext cx="1905120" cy="1600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62720" y="54100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r quantity, count references to same assembl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990720" y="4571640"/>
            <a:ext cx="1371600" cy="1523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5867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main’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tail Mapping -Piecemark 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17524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Piecemark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Alternative of mapping a KISS Piecemark into CIS/2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2864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828800" y="2514600"/>
          <a:ext cx="5486400" cy="391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2514600"/>
                    <a:ext cx="548640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00:48:48Z</dcterms:created>
  <dc:creator>Administrator</dc:creator>
  <dc:description/>
  <dc:language>en-US</dc:language>
  <cp:lastModifiedBy>Administrator</cp:lastModifiedBy>
  <cp:lastPrinted>2001-11-12T21:18:27Z</cp:lastPrinted>
  <dcterms:modified xsi:type="dcterms:W3CDTF">2001-11-12T21:50:09Z</dcterms:modified>
  <cp:revision>27</cp:revision>
  <dc:subject/>
  <dc:title>No Slide Title</dc:title>
</cp:coreProperties>
</file>