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15DCF-AEC5-4FBE-8550-C12FE5038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7482A-2672-46B7-B4FF-C8A3B8E5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7431F-E865-49C9-B21E-AD851B48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496DF-0C99-4F96-B7B6-2EF58FC2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487BA-70AA-4DE0-9B95-C82E8175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0FD7A-2153-46C7-AE0F-91808609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99A01-6B26-4C59-B326-90827100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5C9DB-00C6-48EF-AFBD-83AF7AA2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80154B-337F-4A9C-A79E-DB319A00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BF301-D119-4E93-916D-6E46A44E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F451A-89CF-4370-BCEB-D32B23D10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68B31-41F1-4F61-9B8E-68197E85C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33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4c2b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San Francis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61722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AISC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CIS/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14300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38080" y="5943600"/>
            <a:ext cx="1752840" cy="742680"/>
            <a:chOff x="838080" y="5943600"/>
            <a:chExt cx="1752840" cy="742680"/>
          </a:xfrm>
        </p:grpSpPr>
        <p:sp>
          <p:nvSpPr>
            <p:cNvPr id="7" name=""/>
            <p:cNvSpPr/>
            <p:nvPr/>
          </p:nvSpPr>
          <p:spPr>
            <a:xfrm>
              <a:off x="838080" y="636444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8080" y="636444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36444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6680" y="636444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2200" y="594360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8080" y="665532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0240" y="665856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45720" y="617256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07360" y="621576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234440" y="621576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61880" y="621576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440000" y="621576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72120" y="617256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616400" y="621576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3560" y="617256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756080" y="617544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21576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812240" y="621576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92996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228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26764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3900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5520" y="617256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21900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37680" y="617544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1794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21576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473560" y="621576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507760" y="624060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4364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77840" y="643248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36444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61000" y="636444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58920" y="636444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1880" y="640188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893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16400" y="63644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40188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48520" y="640188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709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5480" y="643248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98360" y="636444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00880" y="636768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473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81520" y="643248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40188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74760" y="640188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08960" y="643248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40764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97160" y="640764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2C89-0B89-49E9-881D-E6FB0D0DA474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902960" y="304200"/>
            <a:ext cx="473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Connection Flavor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3880" y="1564560"/>
            <a:ext cx="6477120" cy="23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MS Mincho"/>
              </a:rPr>
              <a:t>Chuck Eastman, driven by John Manua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33"/>
                </a:solidFill>
                <a:latin typeface="Times New Roman"/>
                <a:ea typeface="MS Mincho"/>
              </a:rPr>
              <a:t>how to associate fabrication-level detail information to a connection, based on the practices of the fabricator and/or engineering fir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flavorslide1" descr=""/>
          <p:cNvPicPr/>
          <p:nvPr/>
        </p:nvPicPr>
        <p:blipFill>
          <a:blip r:embed="rId2"/>
          <a:stretch/>
        </p:blipFill>
        <p:spPr>
          <a:xfrm>
            <a:off x="1752480" y="1219320"/>
            <a:ext cx="5691240" cy="4762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19480" y="379800"/>
            <a:ext cx="73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Logical structure of a connection and its attribu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7480" y="51040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nectedmember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5334120" y="4800240"/>
            <a:ext cx="2133360" cy="7621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45709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nec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4952880"/>
            <a:ext cx="457200" cy="38124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conectionflavorslide2" descr=""/>
          <p:cNvPicPr/>
          <p:nvPr/>
        </p:nvPicPr>
        <p:blipFill>
          <a:blip r:embed="rId2"/>
          <a:stretch/>
        </p:blipFill>
        <p:spPr>
          <a:xfrm>
            <a:off x="2133720" y="1905120"/>
            <a:ext cx="4332240" cy="4522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80880" y="2223720"/>
            <a:ext cx="19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Reference to the item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2590920"/>
            <a:ext cx="609480" cy="2286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260460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Connection flavor library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477120" y="2971800"/>
            <a:ext cx="457200" cy="3049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82880" y="37980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Associating the connection to the flavor librar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10663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Parent of assembly_design_ structural_connection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952520" y="1371600"/>
            <a:ext cx="762120" cy="5335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37840" y="380160"/>
            <a:ext cx="77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Which Members Does a Connection Connect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0480" y="1980000"/>
            <a:ext cx="18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Joint lo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2362320"/>
            <a:ext cx="586728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5019840" cy="2884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905120" y="2286000"/>
            <a:ext cx="457200" cy="83808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7009920" y="2438280"/>
            <a:ext cx="685800" cy="4572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0120" y="19036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ogical assembl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67480" y="37324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nectedmember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7010280" y="3352320"/>
            <a:ext cx="533520" cy="7621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676520" y="1905120"/>
            <a:ext cx="58672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8" name="flavorslide3" descr=""/>
          <p:cNvPicPr/>
          <p:nvPr/>
        </p:nvPicPr>
        <p:blipFill>
          <a:blip r:embed="rId2"/>
          <a:stretch/>
        </p:blipFill>
        <p:spPr>
          <a:xfrm>
            <a:off x="1905120" y="2209680"/>
            <a:ext cx="5187960" cy="17398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286000" y="2819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362320" y="2971800"/>
            <a:ext cx="380880" cy="175248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46468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tructural member part specifi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47689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tructural member part instance lo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705720" y="2742840"/>
            <a:ext cx="304560" cy="21337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7840" y="380160"/>
            <a:ext cx="77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Which Members Does a Connection Connect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3:40:57Z</dcterms:created>
  <dc:creator>Eastman</dc:creator>
  <dc:description/>
  <dc:language>en-US</dc:language>
  <cp:lastModifiedBy>CHUCK</cp:lastModifiedBy>
  <dcterms:modified xsi:type="dcterms:W3CDTF">2001-11-02T08:37:56Z</dcterms:modified>
  <cp:revision>5</cp:revision>
  <dc:subject/>
  <dc:title>No Slide Title</dc:title>
</cp:coreProperties>
</file>