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6419-5D4A-4594-A312-A3981A78606D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9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7" name="RamCaseStud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am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20" name="DesignDataCaseStud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8588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0"/>
                </a:lnTo>
                <a:lnTo>
                  <a:pt x="0" y="268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1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796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9004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2328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6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1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9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54720" y="1246320"/>
            <a:ext cx="1922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0"/>
                </a:lnTo>
                <a:lnTo>
                  <a:pt x="389" y="52"/>
                </a:lnTo>
                <a:lnTo>
                  <a:pt x="330" y="17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7840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137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46960" y="1341360"/>
            <a:ext cx="9745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2120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0"/>
                </a:lnTo>
                <a:lnTo>
                  <a:pt x="389" y="52"/>
                </a:lnTo>
                <a:lnTo>
                  <a:pt x="332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5264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1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7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763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1164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308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8588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4" y="137"/>
                </a:lnTo>
                <a:lnTo>
                  <a:pt x="3" y="201"/>
                </a:lnTo>
                <a:lnTo>
                  <a:pt x="0" y="268"/>
                </a:lnTo>
                <a:lnTo>
                  <a:pt x="18" y="334"/>
                </a:lnTo>
                <a:lnTo>
                  <a:pt x="52" y="393"/>
                </a:lnTo>
                <a:lnTo>
                  <a:pt x="102" y="439"/>
                </a:lnTo>
                <a:lnTo>
                  <a:pt x="162" y="469"/>
                </a:lnTo>
                <a:lnTo>
                  <a:pt x="227" y="483"/>
                </a:lnTo>
                <a:lnTo>
                  <a:pt x="295" y="477"/>
                </a:lnTo>
                <a:lnTo>
                  <a:pt x="358" y="453"/>
                </a:lnTo>
                <a:lnTo>
                  <a:pt x="412" y="411"/>
                </a:lnTo>
                <a:lnTo>
                  <a:pt x="452" y="357"/>
                </a:lnTo>
                <a:lnTo>
                  <a:pt x="476" y="295"/>
                </a:lnTo>
                <a:lnTo>
                  <a:pt x="481" y="227"/>
                </a:lnTo>
                <a:lnTo>
                  <a:pt x="468" y="161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796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1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8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1" y="227"/>
                </a:lnTo>
                <a:lnTo>
                  <a:pt x="467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69004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5" y="295"/>
                </a:lnTo>
                <a:lnTo>
                  <a:pt x="481" y="227"/>
                </a:lnTo>
                <a:lnTo>
                  <a:pt x="468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2328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6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6" y="483"/>
                </a:lnTo>
                <a:lnTo>
                  <a:pt x="294" y="477"/>
                </a:lnTo>
                <a:lnTo>
                  <a:pt x="356" y="453"/>
                </a:lnTo>
                <a:lnTo>
                  <a:pt x="410" y="411"/>
                </a:lnTo>
                <a:lnTo>
                  <a:pt x="450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54720" y="4165560"/>
            <a:ext cx="1922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0"/>
                </a:lnTo>
                <a:lnTo>
                  <a:pt x="21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3" y="477"/>
                </a:lnTo>
                <a:lnTo>
                  <a:pt x="357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137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46960" y="4260960"/>
            <a:ext cx="9745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2120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3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6" y="295"/>
                </a:lnTo>
                <a:lnTo>
                  <a:pt x="480" y="227"/>
                </a:lnTo>
                <a:lnTo>
                  <a:pt x="468" y="161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5264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0" y="411"/>
                </a:lnTo>
                <a:lnTo>
                  <a:pt x="451" y="357"/>
                </a:lnTo>
                <a:lnTo>
                  <a:pt x="474" y="295"/>
                </a:lnTo>
                <a:lnTo>
                  <a:pt x="480" y="227"/>
                </a:lnTo>
                <a:lnTo>
                  <a:pt x="466" y="161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763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308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78128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785080" y="1438200"/>
            <a:ext cx="180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328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6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3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8"/>
                </a:lnTo>
                <a:lnTo>
                  <a:pt x="475" y="294"/>
                </a:lnTo>
                <a:lnTo>
                  <a:pt x="480" y="227"/>
                </a:lnTo>
                <a:lnTo>
                  <a:pt x="467" y="161"/>
                </a:lnTo>
                <a:lnTo>
                  <a:pt x="435" y="102"/>
                </a:lnTo>
                <a:lnTo>
                  <a:pt x="389" y="52"/>
                </a:lnTo>
                <a:lnTo>
                  <a:pt x="331" y="19"/>
                </a:lnTo>
                <a:lnTo>
                  <a:pt x="265" y="2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5264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7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3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8"/>
                </a:lnTo>
                <a:lnTo>
                  <a:pt x="474" y="294"/>
                </a:lnTo>
                <a:lnTo>
                  <a:pt x="480" y="227"/>
                </a:lnTo>
                <a:lnTo>
                  <a:pt x="466" y="161"/>
                </a:lnTo>
                <a:lnTo>
                  <a:pt x="435" y="102"/>
                </a:lnTo>
                <a:lnTo>
                  <a:pt x="389" y="52"/>
                </a:lnTo>
                <a:lnTo>
                  <a:pt x="330" y="19"/>
                </a:lnTo>
                <a:lnTo>
                  <a:pt x="265" y="2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54720" y="222084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21200" y="222084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114800" y="2414160"/>
            <a:ext cx="1440" cy="1731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11480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195800" y="1405080"/>
            <a:ext cx="1015920" cy="84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020760" y="2378160"/>
            <a:ext cx="1020600" cy="84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852560" y="3348000"/>
            <a:ext cx="1022400" cy="851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48040" y="338256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948040" y="1457280"/>
            <a:ext cx="144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54640" y="1405080"/>
            <a:ext cx="10224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24640" y="2378160"/>
            <a:ext cx="10206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96080" y="3352680"/>
            <a:ext cx="1017720" cy="84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618320" y="3382560"/>
            <a:ext cx="180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618320" y="1457280"/>
            <a:ext cx="180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450120" y="2412720"/>
            <a:ext cx="1440" cy="173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45012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8336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364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046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385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067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840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254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02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6852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336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6706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6054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3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81280" y="510840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95240" y="54151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805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4912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1588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8444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5120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5179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284800" y="5073480"/>
            <a:ext cx="15840" cy="228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785080" y="5108400"/>
            <a:ext cx="180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785080" y="5334120"/>
            <a:ext cx="1800" cy="237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364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046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385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067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6968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6968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71760" y="73836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71760" y="95400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65620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65620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76080" y="31021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44280" y="21304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83200" y="3059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14640" y="20890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28680" y="5349960"/>
            <a:ext cx="1611360" cy="691560"/>
            <a:chOff x="328680" y="5349960"/>
            <a:chExt cx="1611360" cy="691560"/>
          </a:xfrm>
        </p:grpSpPr>
        <p:sp>
          <p:nvSpPr>
            <p:cNvPr id="173" name=""/>
            <p:cNvSpPr/>
            <p:nvPr/>
          </p:nvSpPr>
          <p:spPr>
            <a:xfrm>
              <a:off x="328680" y="5349960"/>
              <a:ext cx="158760" cy="215640"/>
            </a:xfrm>
            <a:custGeom>
              <a:avLst/>
              <a:gdLst/>
              <a:ahLst/>
              <a:rect l="l" t="t" r="r" b="b"/>
              <a:pathLst>
                <a:path w="396" h="545">
                  <a:moveTo>
                    <a:pt x="198" y="0"/>
                  </a:moveTo>
                  <a:lnTo>
                    <a:pt x="396" y="545"/>
                  </a:lnTo>
                  <a:lnTo>
                    <a:pt x="198" y="273"/>
                  </a:lnTo>
                  <a:lnTo>
                    <a:pt x="0" y="54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8240" y="534996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24040" y="5884920"/>
              <a:ext cx="216000" cy="156600"/>
            </a:xfrm>
            <a:custGeom>
              <a:avLst/>
              <a:gdLst/>
              <a:ahLst/>
              <a:rect l="l" t="t" r="r" b="b"/>
              <a:pathLst>
                <a:path w="544" h="397">
                  <a:moveTo>
                    <a:pt x="544" y="198"/>
                  </a:moveTo>
                  <a:lnTo>
                    <a:pt x="0" y="397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407880" y="5962680"/>
              <a:ext cx="1531800" cy="10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170440" y="578628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" y="4816440"/>
            <a:ext cx="18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906480" y="426096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51040" y="426096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906480" y="134136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51040" y="134136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1520" y="4135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2600" y="121608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906480" y="231444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51040" y="231444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06480" y="328788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040" y="328788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2600" y="21891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2600" y="31622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0964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1"/>
                </a:lnTo>
                <a:lnTo>
                  <a:pt x="0" y="269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6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1172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6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71380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6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0964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4" y="137"/>
                </a:lnTo>
                <a:lnTo>
                  <a:pt x="3" y="202"/>
                </a:lnTo>
                <a:lnTo>
                  <a:pt x="0" y="269"/>
                </a:lnTo>
                <a:lnTo>
                  <a:pt x="18" y="334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1172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380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80920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0712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0504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6068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8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6276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7" y="334"/>
                </a:lnTo>
                <a:lnTo>
                  <a:pt x="50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7130520" y="375876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380200" y="230004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380200" y="375876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7130880" y="230004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7812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2916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62916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87812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49160" y="158580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440" y="180036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0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35040" y="1620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8320" y="183528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1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637120" y="1603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510400" y="18176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544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6064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9880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3400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4916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490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3504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3532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63712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5546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704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78480" y="214308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10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374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70720" y="2238480"/>
            <a:ext cx="9745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4496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76400" y="2143080"/>
            <a:ext cx="19080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000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354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672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216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0504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80504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19000" y="11318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043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7288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3964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0820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7496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417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0712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30712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80920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880920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990720" y="5529240"/>
            <a:ext cx="1611360" cy="690480"/>
            <a:chOff x="990720" y="5529240"/>
            <a:chExt cx="1611360" cy="690480"/>
          </a:xfrm>
        </p:grpSpPr>
        <p:sp>
          <p:nvSpPr>
            <p:cNvPr id="254" name=""/>
            <p:cNvSpPr/>
            <p:nvPr/>
          </p:nvSpPr>
          <p:spPr>
            <a:xfrm>
              <a:off x="990720" y="5529240"/>
              <a:ext cx="158760" cy="214200"/>
            </a:xfrm>
            <a:custGeom>
              <a:avLst/>
              <a:gdLst/>
              <a:ahLst/>
              <a:rect l="l" t="t" r="r" b="b"/>
              <a:pathLst>
                <a:path w="396" h="544">
                  <a:moveTo>
                    <a:pt x="198" y="0"/>
                  </a:moveTo>
                  <a:lnTo>
                    <a:pt x="396" y="544"/>
                  </a:lnTo>
                  <a:lnTo>
                    <a:pt x="198" y="272"/>
                  </a:lnTo>
                  <a:lnTo>
                    <a:pt x="0" y="54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70280" y="552924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86080" y="6062400"/>
              <a:ext cx="216000" cy="157320"/>
            </a:xfrm>
            <a:custGeom>
              <a:avLst/>
              <a:gdLst/>
              <a:ahLst/>
              <a:rect l="l" t="t" r="r" b="b"/>
              <a:pathLst>
                <a:path w="544" h="396">
                  <a:moveTo>
                    <a:pt x="544" y="198"/>
                  </a:moveTo>
                  <a:lnTo>
                    <a:pt x="0" y="396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1069920" y="6141960"/>
              <a:ext cx="15318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53080" y="582444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2240" y="5472000"/>
            <a:ext cx="18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Z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878040" y="369900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2240" y="3699000"/>
            <a:ext cx="23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877680" y="5159520"/>
            <a:ext cx="176040" cy="158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22240" y="5157720"/>
            <a:ext cx="23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3080" y="5032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4160" y="35719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4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55608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5608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705816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5816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12360" y="762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79520" y="7095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3800" y="1278000"/>
            <a:ext cx="21456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70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784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4312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13600" y="127800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3" y="48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960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926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278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102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590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14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98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750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74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27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4692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64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824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000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7176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3800" y="457200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784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4312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113600" y="457200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960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926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278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02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590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414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398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750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27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4692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764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824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000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7176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318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85392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113600" y="347184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9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41400" y="347184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6000" y="237636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59000" y="237636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267000" y="2597040"/>
            <a:ext cx="1800" cy="19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2670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357360" y="1457280"/>
            <a:ext cx="1145880" cy="95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0318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712440" y="3649680"/>
            <a:ext cx="1152360" cy="95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9494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9494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65600" y="1457280"/>
            <a:ext cx="1154160" cy="959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864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08720" y="3654360"/>
            <a:ext cx="1148040" cy="95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72198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72198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902200" y="2592000"/>
            <a:ext cx="1800" cy="1957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9022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84600" y="1494000"/>
            <a:ext cx="180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19200000">
            <a:off x="1008720" y="3755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9200000">
            <a:off x="2309040" y="2643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9200000">
            <a:off x="3615480" y="1523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4856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48560" y="40845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7876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7876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7772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348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06400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5868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1240" y="4137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6664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6664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2340000">
            <a:off x="6311880" y="263340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2340000">
            <a:off x="5029200" y="15537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2340000">
            <a:off x="7636320" y="37159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517680" y="5613480"/>
            <a:ext cx="214200" cy="216000"/>
          </a:xfrm>
          <a:custGeom>
            <a:avLst/>
            <a:gdLst/>
            <a:ahLst/>
            <a:rect l="l" t="t" r="r" b="b"/>
            <a:pathLst>
              <a:path w="539" h="545">
                <a:moveTo>
                  <a:pt x="270" y="0"/>
                </a:moveTo>
                <a:lnTo>
                  <a:pt x="193" y="12"/>
                </a:lnTo>
                <a:lnTo>
                  <a:pt x="123" y="43"/>
                </a:lnTo>
                <a:lnTo>
                  <a:pt x="64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1" y="449"/>
                </a:lnTo>
                <a:lnTo>
                  <a:pt x="119" y="500"/>
                </a:lnTo>
                <a:lnTo>
                  <a:pt x="189" y="533"/>
                </a:lnTo>
                <a:lnTo>
                  <a:pt x="266" y="545"/>
                </a:lnTo>
                <a:lnTo>
                  <a:pt x="342" y="535"/>
                </a:lnTo>
                <a:lnTo>
                  <a:pt x="413" y="504"/>
                </a:lnTo>
                <a:lnTo>
                  <a:pt x="472" y="455"/>
                </a:lnTo>
                <a:lnTo>
                  <a:pt x="514" y="391"/>
                </a:lnTo>
                <a:lnTo>
                  <a:pt x="538" y="317"/>
                </a:lnTo>
                <a:lnTo>
                  <a:pt x="539" y="239"/>
                </a:lnTo>
                <a:lnTo>
                  <a:pt x="520" y="166"/>
                </a:lnTo>
                <a:lnTo>
                  <a:pt x="480" y="100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719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3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3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4247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2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532720" y="2535120"/>
            <a:ext cx="180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578480" y="2535120"/>
            <a:ext cx="144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27120" y="2570040"/>
            <a:ext cx="15840" cy="3043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9972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36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0808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3572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65476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58204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19200000">
            <a:off x="9802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19200000">
            <a:off x="10591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2340000">
            <a:off x="36925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2340000">
            <a:off x="34603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19200000">
            <a:off x="49330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19200000">
            <a:off x="50119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340000">
            <a:off x="76453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2340000">
            <a:off x="74131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2340000">
            <a:off x="17985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2340000">
            <a:off x="15663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19200000">
            <a:off x="2874240" y="29084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19200000">
            <a:off x="29530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2340000">
            <a:off x="57531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2340000">
            <a:off x="55191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19200000">
            <a:off x="6827040" y="2908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19200000">
            <a:off x="69058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94080" y="39654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2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1" y="165"/>
                </a:lnTo>
                <a:lnTo>
                  <a:pt x="481" y="99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48320" y="39654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6638760" y="4143240"/>
            <a:ext cx="181008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46605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46609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6638760" y="2495520"/>
            <a:ext cx="181008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0812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845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26841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70776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23800" y="233208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784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4312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113600" y="233208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960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926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278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102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590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414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398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3750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574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127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4692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764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824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000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7176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09" name="EX2-as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1" name="EX2-moments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3" name="EX2-disp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5" name="EX2-grph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5:01:41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56Z</dcterms:modified>
  <cp:revision>10</cp:revision>
  <dc:subject/>
  <dc:title>CIS/2 Implementation Workshop III,  3-7 April 2000, Ascot</dc:title>
</cp:coreProperties>
</file>